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60A-33C7-4470-BA38-55E568CA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CB2-2EA1-45CF-B2B8-B1A6642F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42B5-8D93-422C-8FB8-9F2931A2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438-C0FB-405E-89A2-58D1D29F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F25-0A53-48DA-85E7-E2AABBC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247-4BEA-463E-AB4D-3E0EF1EE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C78-2075-4528-9B30-A9091F9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E37-AD0A-4053-BE01-C502FF79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802-1981-4A18-A4FB-645E06D1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CEA-30D3-4910-A38A-6A2D1AB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A13-5357-425B-83E5-CEB3379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7C5-B446-4858-A206-46444BB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DD22-29CF-4332-A59B-D6DD20D60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001000" cy="1295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Papyrus"/>
              </a:rPr>
              <a:t>ESTUDIO ECONÓM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997360"/>
            <a:ext cx="2666880" cy="1904760"/>
          </a:xfrm>
          <a:custGeom>
            <a:avLst/>
            <a:gdLst>
              <a:gd name="textAreaLeft" fmla="*/ 946800 w 2666880"/>
              <a:gd name="textAreaRight" fmla="*/ 1720080 w 2666880"/>
              <a:gd name="textAreaTop" fmla="*/ 676080 h 1904760"/>
              <a:gd name="textAreaBottom" fmla="*/ 12286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69" y="7669"/>
                </a:lnTo>
                <a:lnTo>
                  <a:pt x="10800" y="0"/>
                </a:lnTo>
                <a:lnTo>
                  <a:pt x="13931" y="7669"/>
                </a:lnTo>
                <a:lnTo>
                  <a:pt x="21600" y="10800"/>
                </a:lnTo>
                <a:lnTo>
                  <a:pt x="13931" y="13931"/>
                </a:lnTo>
                <a:lnTo>
                  <a:pt x="10800" y="21600"/>
                </a:lnTo>
                <a:lnTo>
                  <a:pt x="7669" y="13931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84760" y="2529000"/>
            <a:ext cx="2301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206064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MONTO DE RECUR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CONÓ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357720"/>
            <a:ext cx="25905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COSTO TOTAL OPERACIÓN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(costo de producción y gastos de admón y venta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522936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PROYECCIÓN DE INGRESOS PARA   DETERMINAR EL MARGEN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716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FUENTES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438280" y="533520"/>
            <a:ext cx="42768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rial Narrow"/>
              </a:rPr>
              <a:t>PRONÓSTICO DE VENTAS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8080" y="1905120"/>
          <a:ext cx="7696440" cy="4201920"/>
        </p:xfrm>
        <a:graphic>
          <a:graphicData uri="http://schemas.openxmlformats.org/drawingml/2006/table">
            <a:tbl>
              <a:tblPr/>
              <a:tblGrid>
                <a:gridCol w="2667240"/>
                <a:gridCol w="1752480"/>
                <a:gridCol w="1600200"/>
                <a:gridCol w="1676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CALES COMER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ICI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IF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RBANIZA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74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OS COMER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3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N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2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N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.14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.7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8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14400" y="762120"/>
            <a:ext cx="774396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FLUJO NETO DE EFECTIVO (FNE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(Aproximado al primer año)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828800"/>
            <a:ext cx="7086600" cy="419292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+INGRESOS POR VENTAS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61.14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-COSTOS DE PRODUCCIÓN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11.8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UTILIDAD MARGINAL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49.34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-COSTOS GENERALES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38.56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UTILIDAD BRUTA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10.78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-IMPUESTO SOBRE LA RENTA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    8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UTILIDAD NETA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 9.98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+DEPRECIACIÓN Y AMORTIZ.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   20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=FLUJO NETO DE EFECTIVO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10.180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UDIO ECONÓMICO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286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STO DE LA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276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RUCTURA DE COSTOS Y GA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RUCTURA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334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UENTES DE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362320"/>
            <a:ext cx="1447920" cy="485640"/>
          </a:xfrm>
          <a:prstGeom prst="rightArrow">
            <a:avLst>
              <a:gd name="adj1" fmla="val 57519"/>
              <a:gd name="adj2" fmla="val 630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3352680"/>
            <a:ext cx="1447920" cy="486000"/>
          </a:xfrm>
          <a:prstGeom prst="rightArrow">
            <a:avLst>
              <a:gd name="adj1" fmla="val 50000"/>
              <a:gd name="adj2" fmla="val 7448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419720"/>
            <a:ext cx="1452600" cy="485640"/>
          </a:xfrm>
          <a:prstGeom prst="rightArrow">
            <a:avLst>
              <a:gd name="adj1" fmla="val 50000"/>
              <a:gd name="adj2" fmla="val 7477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548640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440" y="2154240"/>
            <a:ext cx="27432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RSIÓN INICI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29200" y="3213000"/>
            <a:ext cx="281952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STOS DE PRODUC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2440" y="4243320"/>
            <a:ext cx="27432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FLUJO NETO DE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5251320"/>
            <a:ext cx="2743200" cy="914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RECURSOS ECONOM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5640" y="404640"/>
            <a:ext cx="7561440" cy="1368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000" y="2409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DQUISICIÓN DE ACTIVOS FIJOS Y DIFER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APITAL DE TRABAJ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38480" y="2193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PRODU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ASTOS DE 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ASTOS DE V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47640" y="692280"/>
            <a:ext cx="586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UDIO ECONÓMIC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2743200" cy="83808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STO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057400"/>
            <a:ext cx="2666880" cy="76212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STOS Y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590920"/>
            <a:ext cx="8077320" cy="3276360"/>
          </a:xfrm>
          <a:prstGeom prst="cloudCallout">
            <a:avLst>
              <a:gd name="adj1" fmla="val -847"/>
              <a:gd name="adj2" fmla="val -79990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505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GRESOS    =     PRECIO DE VENTA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° UNIDADES  VEND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00200" y="457200"/>
            <a:ext cx="60483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STUDIO ECONÓMICO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STRUCTURA DE RESULTADO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438280" y="609480"/>
            <a:ext cx="42292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STUDIO ECONÓMICO</a:t>
            </a:r>
            <a:endParaRPr b="1" lang="en-US" sz="2800" spc="1" strike="noStrike">
              <a:ln w="0">
                <a:noFill/>
              </a:ln>
              <a:solidFill>
                <a:srgbClr val="8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STRUCTURA DE RESULTADOS</a:t>
            </a:r>
            <a:endParaRPr b="1" lang="en-US" sz="2800" spc="1" strike="noStrike">
              <a:ln w="0">
                <a:noFill/>
              </a:ln>
              <a:solidFill>
                <a:srgbClr val="808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600200"/>
            <a:ext cx="7467480" cy="4800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676520"/>
            <a:ext cx="647712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UJOS NETOS DE EFECTIVO (F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+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GRE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    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   UTILIDAD MAR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DE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   UTILIDAD BR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MPUESTO SOBRE LA R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=   UTILIDAD 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+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UJO NETO DE EFECTIVO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666880" y="762120"/>
            <a:ext cx="4114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UDIO ECONÓMICO</a:t>
            </a:r>
            <a:endParaRPr b="0" lang="en-US" sz="2400" spc="1" strike="noStrike">
              <a:ln w="19080">
                <a:solidFill>
                  <a:srgbClr val="00ff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14600"/>
            <a:ext cx="4191120" cy="3581280"/>
          </a:xfrm>
          <a:prstGeom prst="irregularSeal1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U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19720" y="2209680"/>
            <a:ext cx="2514600" cy="83844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648320"/>
            <a:ext cx="2514600" cy="838080"/>
          </a:xfrm>
          <a:custGeom>
            <a:avLst/>
            <a:gdLst>
              <a:gd name="textAreaLeft" fmla="*/ 444240 w 2514600"/>
              <a:gd name="textAreaRight" fmla="*/ 1800360 w 25146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37" hR="21600" stAng="10800000" swAng="5400000"/>
                <a:lnTo>
                  <a:pt x="11646" y="0"/>
                </a:lnTo>
                <a:arcTo wR="7637" hR="21600" stAng="-5400000" swAng="2699943"/>
                <a:lnTo>
                  <a:pt x="21163" y="14400"/>
                </a:lnTo>
                <a:lnTo>
                  <a:pt x="17278" y="21600"/>
                </a:lnTo>
                <a:lnTo>
                  <a:pt x="12518" y="14400"/>
                </a:lnTo>
                <a:lnTo>
                  <a:pt x="14836" y="14400"/>
                </a:lnTo>
                <a:arcTo wR="7637" hR="21600" stAng="-2700057" swAng="-2370337"/>
                <a:lnTo>
                  <a:pt x="9641" y="757"/>
                </a:lnTo>
                <a:arcTo wR="7637" hR="21600" stAng="-5729606" swAng="-5070394"/>
                <a:close/>
              </a:path>
              <a:path fill="darkenLess" w="21600" h="21600">
                <a:moveTo>
                  <a:pt x="0" y="21600"/>
                </a:moveTo>
                <a:arcTo wR="7637" hR="21600" stAng="10800000" swAng="5400000"/>
                <a:lnTo>
                  <a:pt x="7637" y="0"/>
                </a:lnTo>
                <a:arcTo wR="7637" hR="21600" stAng="-5400000" swAng="329606"/>
                <a:lnTo>
                  <a:pt x="9641" y="757"/>
                </a:lnTo>
                <a:arcTo wR="7637" hR="21600" stAng="-5729606" swAng="-5070394"/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5783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J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71600" y="380880"/>
            <a:ext cx="64389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MPRESA DE SERVICIOS DE LIMPIEZA Y MANTENIMIEN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INVERSIÓN INICIAL DEL PROYECTO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1523880"/>
            <a:ext cx="7239240" cy="4485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IRCULANTE                                                                                                 8.4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EFECTIVO EN BANCOS                                                                             8.4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FIJO TANGIBLE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69.1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TERREN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4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MAQUINARIAS Y EQUIP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17.5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MUEBLES Y ENSERE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2.6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VEHÍCULOS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35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FIJO INTANGIBLE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   5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PATENTE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 5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DIFERIDO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2.8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GASTOS DE ORGANIZACIÓN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2.8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OTROS ACTIVOS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 5.250-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CONSTRUCCIONES EN PROCESO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5.25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TOTAL INVERSIÓN     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86.050.000,00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4479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17220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44792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9320" y="380880"/>
            <a:ext cx="7038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PRESUPUESTO COSTO DE PRODUCCIÓN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1523880"/>
          <a:ext cx="7848720" cy="4162680"/>
        </p:xfrm>
        <a:graphic>
          <a:graphicData uri="http://schemas.openxmlformats.org/drawingml/2006/table">
            <a:tbl>
              <a:tblPr/>
              <a:tblGrid>
                <a:gridCol w="2971800"/>
                <a:gridCol w="1524240"/>
                <a:gridCol w="167616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EP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 Pr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direc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Indirec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les Indirec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teni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uro e Impue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rec. Y Amortiza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ES ANU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8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355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5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666880" y="457200"/>
            <a:ext cx="37814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Narrow"/>
              </a:rPr>
              <a:t>ESTRUCTURA DE GASTO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Narrow"/>
              <a:ea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371600"/>
            <a:ext cx="7315200" cy="4495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32080" y="1336680"/>
            <a:ext cx="67212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GASTOS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ASTOS DE PUBLICIDAD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2.4000.000,00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GASTOS DE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ERENTE GENERAL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6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ERENTE ADMINISTRATIVO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3.36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ERENTTE DE SERVICIO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3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SUELDOS Y SALARIOS (10 OBREROS)    16.8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ASTOS GENERALES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5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GASTOS DE MANTENIMIENTO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2.00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TOTAL GASTOS OPERATIVOS ANUALES      38.560.000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05:00:22Z</dcterms:created>
  <dc:creator>pc</dc:creator>
  <dc:description/>
  <dc:language>en-US</dc:language>
  <cp:lastModifiedBy>user</cp:lastModifiedBy>
  <dcterms:modified xsi:type="dcterms:W3CDTF">2007-06-17T13:00:36Z</dcterms:modified>
  <cp:revision>31</cp:revision>
  <dc:subject/>
  <dc:title>ESTUDIO ECONÓMICO</dc:title>
</cp:coreProperties>
</file>